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633-9009-425E-B808-AA762809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C49-D7D5-4978-857E-AB317E8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7FC-DCCF-4153-BE02-FAE79829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DDC-F6B5-4AC7-9BB1-71268E17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A55-D1F1-4F57-85D9-3134BF6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0F0-5007-431C-9CD1-7B8EFDF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1E2-07C5-4D12-9F9E-714B49E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58A-1B7D-4EEB-9C80-172527A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6F9-69BA-4D9F-B390-E0A95F0F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F24-A4E7-4B38-86A0-9194EF6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ABB-61AF-4655-BD22-E47B436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4DE-18BB-4140-809F-C1D637F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7CBA84-20F6-4B7C-9CC4-1454CAB5C7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Ing. Rogelio Sevilla Fernán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sevilla@col.gob.mx  sevilla100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ke-On-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tencia WiFi hasta 251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islamiento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do Adhoc / Cliente /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ltro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guridad WEP, WPA, WP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Versiones 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les y 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 ( Equipos con menos de 2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andard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IP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PN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quipos Linksys Sopor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: v1.0-v4.0. 16 MB RAM / 4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: v5.0-v6.0. 8 MB RAM / 2 FLAS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L: vx.x. 16 MB RAM / 4 MB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S: v1.0-v4.0 32 MB RAM / 8 MB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P54G 8 MB RAM / 2 FL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untos Calientes (HotSp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Zona de Cobertura WiFi en lugar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n experimentado un gran auge en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mite facilitar al máximo la conexión inalámbrica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rtales Cau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Éxito de un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 debe de ser un estorbo o molestia para el establ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exión de banda an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bre o Prep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oftware par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utnik  (Version 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llispot  (Version Están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fidog * (Version 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Cat (Obsol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ortal Cautivo … WiFi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lución de portal cautivo para sistemas integrados destinados a ambientes inalámbricos gratu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eación de cuentas de acceso con un ID y e-mail ún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tentificación cent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nitoreo de los nodos mediante un senso de la actividad de la red. Así el servidor siempre conoce que nodos está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enidos específicos para cada N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dísticas: usuarios registrados, uso del ancho de banda por usuario, usuarios repetitiv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ortal Cautivo … WiFi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sarrollado en código C para facilitar su integración en sistemas embebidos, principalmente desarrollado para WRT54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rvidor de Autentificación desarrollado en PHP y Postgre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 administración-autentificación es realizada en el servidor de autentificación. El Gateway solo juega con reglas de cortafue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so de éxito. Red Inalámbrica gratuita Gobierno del Estado de Co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1733400"/>
            <a:ext cx="7704000" cy="37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D E M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GNU/Linux en Menos de 100 U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yectos 3rd Party Firmw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quipos basados en chip Broa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istema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 informático de uso específico construido dentro de un dispositivo may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onentes integrados en una tarjeta madre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cio y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adores y Memoria peque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Ventajas Sistema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sibilidad de utilización de sistemas operativos potentes que ya realizan numerosas 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rramientas de desarrollo software pot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ducción en el precio de los componentes hardware y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Third-Party Firm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yperWRT: Firmware basado en el de fábrica del Link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eaSoft: Versiones Libres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enWRT: Firmware con un sistema de archivos JFFS2 y administración de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D-WRT: Versiones libres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quipos Chip Broad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ff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ks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mware Libre bajo los términos de la licencia G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meras versiones basadas en el firmware Alchemy Svea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es Libre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uters 802.11g basados en chip Broad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3 idiomas (Español entre ell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802.1x Protocolo de Autentificación Extensible (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HCP Server/Client/Forw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NS Server/Forw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MZ (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ynamic DNS (DynDNS, EasyDNS, FreeDNS, No-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tspot Portal (Sputnik, Chillispot, Nocat, Wifid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JFF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MC/SD Card Support (requiere modificacion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ernel v2.4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64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ewall y QoS basado en las herramientas iproute2, iptables, tc, ipp2p, layer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rt Forwar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PNs (PPTP, Open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tocolos de conexión a internet (PPPoE, IP estática, PPTP, L2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tocolos de Ruteo RIP, BGP, OSP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rvicio UP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ministración SSH/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on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illa[404NotFound]</dc:creator>
  <dc:description/>
  <dc:language>en-US</dc:language>
  <cp:lastModifiedBy>Sevilla[404NotFound]</cp:lastModifiedBy>
  <cp:revision>0</cp:revision>
  <dc:subject/>
  <dc:title>El poder de GNU/Linux en menos de 100 US.</dc:title>
</cp:coreProperties>
</file>